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829F-D53C-43BD-9D48-26EDDA39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F138-2BFE-48A6-A9E4-0443C287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47C0-5CFF-43DF-B8F7-8897AD8E1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E851-20D7-4F19-9D77-F49C82268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B9F2-CB03-4783-BB4F-BB20059B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97F3-89CD-4431-841B-C8A17134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9A5A-218D-49B0-90F8-C1448DE3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81F1-64F3-405B-A61B-C05D06A7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F29B-6AAB-4AB6-AC6A-BD6C6325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DE04-21C1-4C60-865B-0A005CEA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D806-2653-4919-B738-9AB17369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2FE8-B61D-46E5-92CF-F23C6E46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2E8C-20D1-4F69-BC64-DAD2E7700D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о данным Ассоциации специалистов по недвижимости (риэлторов) Украины www.asnu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B215-FD60-4AA6-9668-DEEA774154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341000"/>
            <a:ext cx="77868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алитические данные Ассоциации Специалистов по Недвижимости (риэлторов) Украины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 рынку недвижимости г. Киева г.Одесса г. Харьков г. Льв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63640" y="4653000"/>
            <a:ext cx="7058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нформация подготовлена комитетом АСНУ по информационным технологиям, сервисам, аналитике, МЛ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4143240" y="14292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равнительные характеристики Январь 2010 год – Февраль 2010 год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Средняя стоимости кв.м.жилой недвижимости (вторичный рынок) по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Административным районам города Харьков</a:t>
            </a: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77058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48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равнительные характеристики Февраль 2009 год – Февраль 2010 год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Средняя стоимости кв.м.жилой недвижимости (вторичный рынок) по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Административным районам города Харьков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806472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ынок недвижимости  Львов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неполны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Цикл 2007 год – 2010 год  (4 года)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1 Фаза (2007 год – май 2008 года)  Подъем, рост рынк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                    2 Фаза (май 2008 года – октябрь 2008 года) Избыток предложения.   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              3 Фаза (октябрь 2008 года – декабрь 2010 года) Спад ,рецессия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        Стадия депрессивной стабилизации октябрь (январь 2010 года - ????????)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Текст 2"/>
          <p:cNvGraphicFramePr/>
          <p:nvPr/>
        </p:nvGraphicFramePr>
        <p:xfrm>
          <a:off x="179280" y="1628640"/>
          <a:ext cx="8496360" cy="499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Текс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28640"/>
                    <a:ext cx="849636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6429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равнительные характеристики Январь-Февраль    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Средняя стоимости кв.м. жилой недвижимости (вторичный рынок) по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Административным районам города Львов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7058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0428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равнительные характеристики Февраль 2009 год – Февраль 2010 год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Средняя стоимости кв.м. жилой недвижимости (вторичный рынок) по   Административным районам города Львов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84247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ынок недвижимости  Киева  (Украины) прошел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рвый цикл полный: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Цикл  (1992) 1994 год – 2002 год (11 лет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торой цикл неполный: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Цикл 2003 год – 2010 год  (8 лет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8820000" cy="5327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6429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41672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еполный цикл рынка недвижимости города Киева продолжительность 8 лет       (200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год - 2010 год)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1 Фаза (2003 год – 2007 год) Подъем, рост рынк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     2 Фаза (2007 год – 2008 год) Избыток предложения.   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3 Фаза (2008 год – 2010 год) Спад рецессия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(январь2010 год- ???????) Стадия депрессивной стабилизаци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8893080" cy="4969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6429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5640" y="274320"/>
            <a:ext cx="7559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равнительные характеристики Январь-Февраль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          Средняя стоимость кв.м. жилой недвижимости (вторичный рынок) по                           Административным районам г. Киева.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52" name="Нижний колонтитул 4"/>
          <p:cNvSpPr/>
          <p:nvPr/>
        </p:nvSpPr>
        <p:spPr>
          <a:xfrm>
            <a:off x="214200" y="6356520"/>
            <a:ext cx="8715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0db3"/>
                </a:solidFill>
                <a:latin typeface="Calibri"/>
              </a:rPr>
              <a:t>по данным Ассоциации специалистов по недвижимости (риэлторов) Украины www.asnu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-181080" y="1557360"/>
            <a:ext cx="9145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равнительные характеристики Февраль 2009 год- Февраль 2010 год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Средняя стоимость кв.м. жилой недвижимости (вторичный рынок) по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Административным районам г. Киева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642960" cy="642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Текст 2"/>
          <p:cNvGraphicFramePr/>
          <p:nvPr/>
        </p:nvGraphicFramePr>
        <p:xfrm>
          <a:off x="395280" y="981000"/>
          <a:ext cx="8424720" cy="568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7" name="Текс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981000"/>
                    <a:ext cx="842472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ынок недвижимости  Одессы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неполны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Цикл 2005 год – 2010 год  (6 лет)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1 Фаза (2005 год – 2007 год) Подъем,  рост рынк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  2 Фаза (2007 год – 2008 год) Избыток предложения.   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3 Фаза (2008 год – 2010 год) Спад , рецессия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тадия депрессивной стабилизации (январь 2010 год - ???????????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2960" cy="642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Текст 2"/>
          <p:cNvGraphicFramePr/>
          <p:nvPr/>
        </p:nvGraphicFramePr>
        <p:xfrm>
          <a:off x="1692360" y="1628640"/>
          <a:ext cx="6264360" cy="4525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1" name="Текс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1628640"/>
                    <a:ext cx="6264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"/>
          <p:cNvPicPr/>
          <p:nvPr/>
        </p:nvPicPr>
        <p:blipFill>
          <a:blip r:embed="rId4"/>
          <a:stretch/>
        </p:blipFill>
        <p:spPr>
          <a:xfrm>
            <a:off x="250920" y="260280"/>
            <a:ext cx="6429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40428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равнительные характеристики Декабрь-Февраль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оимость аренды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жилой недвижимости (1 комнатные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2 комнатные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3 комнатные квартиры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) по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Административным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районам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города Одесса 2010 го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9080" cy="647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7993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равнительные характеристики Февраль 2009 год- Февраль 2010 год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оимость аренды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илой недвижимости (1 комнатные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2 комнатные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3 комнатные квартиры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) п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Административным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района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города Одесса 2010 го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8064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ынок недвижимости  Харьков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неполны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Цикл 2007 год – 2010 год  (4 года)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1 Фаза (2007 год – май 2008 года)  Подъем, рост рынк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                    2 Фаза (май 2008 года – октябрь 2008 года) Избыток предложения.   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             3 Фаза (октябрь 2008 года – декабрь 2010 года) Спад ,рецессия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        Стадия депрессивной стабилизации октябрь (январь 2010 года - ????????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Текст 2"/>
          <p:cNvGraphicFramePr/>
          <p:nvPr/>
        </p:nvGraphicFramePr>
        <p:xfrm>
          <a:off x="539640" y="1628640"/>
          <a:ext cx="8209080" cy="496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Текс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28640"/>
                    <a:ext cx="820908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Picture 2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4"/>
          <a:stretch/>
        </p:blipFill>
        <p:spPr>
          <a:xfrm>
            <a:off x="250920" y="260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5"/>
          <a:stretch/>
        </p:blipFill>
        <p:spPr>
          <a:xfrm>
            <a:off x="250920" y="260280"/>
            <a:ext cx="6429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08:23:22Z</dcterms:created>
  <dc:creator>marketing1</dc:creator>
  <dc:description/>
  <dc:language>en-US</dc:language>
  <cp:lastModifiedBy>Гусельников</cp:lastModifiedBy>
  <dcterms:modified xsi:type="dcterms:W3CDTF">2010-03-23T13:41:39Z</dcterms:modified>
  <cp:revision>46</cp:revision>
  <dc:subject/>
  <dc:title>Слайд 1</dc:title>
</cp:coreProperties>
</file>